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00074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80D8-38E9-4422-A7E6-BCAFE183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3D0-B47B-48A5-8BC4-13BE281B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6929-277B-46CC-845D-7634CCB9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112-66BA-425A-87D8-EECA55B5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F315-D55B-4B47-8A48-C9428B59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C95-20F4-4FC3-92E6-01E5D565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1EA-59C8-4633-836A-54052BB4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D70B-7F12-4BE1-8E60-E52F94C5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1D3-FE50-4EED-B3C4-016570CD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9954-0E84-4C24-836C-3B63D17C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D79-ECFA-4ACA-BF80-66538A12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4E3-359B-4482-A7D6-2E5D26F5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6660-2E7B-4A6E-B8A0-8A4A396417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00074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mailto:xawcos@tin.i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609480"/>
            <a:ext cx="8305920" cy="37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cc99"/>
                </a:solidFill>
                <a:latin typeface="Times New Roman"/>
              </a:rPr>
              <a:t>Por la PAZ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cc99"/>
                </a:solidFill>
                <a:latin typeface="Times New Roman"/>
              </a:rPr>
              <a:t>en recuerdo d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cc99"/>
                </a:solidFill>
                <a:latin typeface="Times New Roman"/>
              </a:rPr>
              <a:t>RACHEL CORRI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00074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155080" cy="5399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304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Muchas han sido las iniciativas en Olympia (Washington) y en los Estados Unidos para recordar a Rach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152280" y="109440"/>
            <a:ext cx="8839440" cy="6234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320" y="117360"/>
            <a:ext cx="8839080" cy="745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ta presentación quiere ser un testigo para no olvidar a Rachel, una joven pacifista que con su coraje quería parar las injusticias que cada día se dan en Palest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imes New Roman"/>
              </a:rPr>
              <a:t>En estos días y en estos meses se está moviendo contra la guerra el movimiento pacifista mas grande que la historia haya jamás conocido; Rachel Corrie es seguramente el símbolo de este movimiento y ha sido muerta en la lógica absurda y brutal de la guerra que todos nosotros los pacifistas intentamos par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Os pido que hagáis pasar esta presentación para hacer conocer el caso de esta joven chica, parte de su historia y parte de su empeño</a:t>
            </a:r>
            <a:r>
              <a:rPr b="1" lang="it-IT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Para acordarnos: que todavía está en curso un conflicto entre israelíes y palestinos, con muchas víctimas civiles inocentes en ambos países y que se debe seguir presionando para que se encuentre una solución pacifista y duradera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efano Costa (Verdi Milano) -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xawcos@tin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ducido por Giuseppe Iula y Sergi Alvarez (Barcel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24480" cy="604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457200"/>
            <a:ext cx="403848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Hace pocos días en Gaza, ha  perdido la vida una joven pacifista, Rachel Corrie, de sólo 23 años.  Era una estudiante de la Universidad de Olympia (Washington), y pertenecía al  movimiento por la justicia y la pa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on su asociación pacifista había organizado iniciativas en ocasión del aniversario del 11 de septiembre, en memoria de las víctimas del desastre y de la guerra en Afghanistá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1368360"/>
            <a:ext cx="6118200" cy="4137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2286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ste año Rachel había decidido  pasar  de la teoría a la acción, marchándose a Israel, donde se había unido al grupo palestino Movimiento Internacional de la Solida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100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on esta Asociación participaba en acciones, para bloquear las excavadoras israelíes, que intentaban  abatir las casas de los kamikazes y de sus familiares, en los territorios palestinos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521480" cy="521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56707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 los  amigos, en diferentes correos electrónicos, habia escrito: “Abaten la casas aunque haya gente  dentro, no tienen respeto por nada y por nadi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158160" cy="4138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l 15 de marzo, en un acción en  Rafah, en la frontera de Gaza, Rachel se encontraba con sus amigos para intentar  oponerse a las demol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4100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staba sentada en la trayectoria  del Bulldozer, el conductor la vió,  continuó y le pasó por encima”, ha declarado Joseph Smith, militante pacifista de EEU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813800" cy="521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152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a excavadora le echó tierra encima y después la aplastó”, ha añadido Nicholas Dure, otro compañ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10640" cy="5221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228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os compañeros intentaron de todas las  maneras parar la excavadora,  y después prestaron  ayuda, pero nada se pudo ha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1335240"/>
            <a:ext cx="7388280" cy="5217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316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Rachel Corrie de sólo 23 años ha perdido la vida, mientras defendía, con el propio cuerpo y sus ideas, el derecho de  los ciudadanos palestinos de tener un techo y un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289400" cy="6042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95680" y="0"/>
            <a:ext cx="464832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as autoridades  israelíes han dado diferentes versiones del suceso, todas ellas desmintiendo la documentación fotografica y de los testigos.  La joven ha sido muerta  a sangre fría de forma  bárbara, mientras se interponía de forma pacíf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Rachel y  sus compañeros, han denunciado: que cada día decenas y decenas de casas vienen siendo destruídas en la frontera de Gaza, que los bombardeos han dañado  los pozos de agua dulce en los campos de refugiados de Rafah y que los mismos no podían ser reparados por los trabajadores palestinos sin exponerse a las balas israelia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23:56:12Z</dcterms:created>
  <dc:creator>Stefano</dc:creator>
  <dc:description/>
  <dc:language>en-US</dc:language>
  <cp:lastModifiedBy>Clara E. García Moro</cp:lastModifiedBy>
  <dcterms:modified xsi:type="dcterms:W3CDTF">2003-10-28T12:30:32Z</dcterms:modified>
  <cp:revision>13</cp:revision>
  <dc:subject/>
  <dc:title>Presentazione di PowerPoint</dc:title>
</cp:coreProperties>
</file>