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12D-50C5-41A2-A48E-8987D957D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13A7-4CCF-4537-83B5-A0D45DC0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2C50-39AB-493C-A01A-22EB0F83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F96C-31B3-4C07-B562-EA57A521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6B4E-7757-4109-AA21-DA9B7F57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8E9A-EAA6-4E8F-A8D8-D004C7116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56F7-E6FF-4DE6-8785-66D8454D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E9D7-E40F-457B-A78C-9B73641CF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3972-7A1F-4FF8-A75C-2F77F31F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35E17-515F-439C-B9F2-A0BFBBFFB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F1E3-C028-4EDD-AC2F-627B173BD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69F-5942-45C3-8B3D-A16032D08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8DD2-D7BE-4741-BD87-93A16AA3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05597-83CD-4ABC-AD82-4311339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EF0A-4885-49A7-8538-A06AD901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2ADF1-8A1B-420B-92D1-8B4F43BB8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FD98-930B-4215-873A-72CCBF4E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72D3-736B-43B0-9EC2-D3229EE7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054F-57D9-4A05-8ECF-CA5212847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B020-D06B-4F8D-BB37-4FFCBAAC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4076-CF41-4C0E-A219-834E2769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DEE4-5CA3-4E3A-9272-5277544BA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B5B1-041C-452A-89B2-E409D613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E0BC-C3FB-4A63-8636-C1E8BEC6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24901-A2F9-4A35-B23D-02D65DA59CA2}" type="slidenum">
              <a:rPr b="0" lang="ca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7" name="Picture 1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F4D3-1CF6-40E0-AF85-B1A39AAB2DC7}" type="slidenum">
              <a:rPr b="0" lang="ca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24000" y="2349360"/>
            <a:ext cx="8496000" cy="30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17 DE NOVEMBR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800" spc="-1" strike="noStrike">
                <a:solidFill>
                  <a:srgbClr val="ffffff"/>
                </a:solidFill>
                <a:latin typeface="Arial"/>
              </a:rPr>
              <a:t>VAGA GENERAL D’UNIVERSITAT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800" spc="-1" strike="noStrike">
                <a:solidFill>
                  <a:srgbClr val="ffffff"/>
                </a:solidFill>
                <a:latin typeface="Arial"/>
              </a:rPr>
              <a:t>PÚBLIQUES CATALA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4716360" y="406440"/>
            <a:ext cx="424836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Perquè hi tenim més a perdre si ens quedem quiets/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Perquè no em vull quedar mirant com d’altres defensen la dignitat i el meu lloc de trebal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200" spc="-1" strike="noStrike">
                <a:solidFill>
                  <a:srgbClr val="ffffff"/>
                </a:solidFill>
                <a:latin typeface="Arial"/>
              </a:rPr>
              <a:t>Perquè em segueixo creient que la universitat és un servei públi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755640" y="4581360"/>
            <a:ext cx="7559640" cy="195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800" spc="-1" strike="noStrike">
                <a:solidFill>
                  <a:srgbClr val="ffff66"/>
                </a:solidFill>
                <a:latin typeface="Arial"/>
              </a:rPr>
              <a:t>Aquest dijous 17-N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6600" spc="-1" strike="noStrike">
                <a:solidFill>
                  <a:srgbClr val="ffff66"/>
                </a:solidFill>
                <a:latin typeface="Arial"/>
              </a:rPr>
              <a:t>FAREM VAGA !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6" descr="retallable_1"/>
          <p:cNvPicPr/>
          <p:nvPr/>
        </p:nvPicPr>
        <p:blipFill>
          <a:blip r:embed="rId1"/>
          <a:srcRect l="6657" t="0" r="13337" b="0"/>
          <a:stretch/>
        </p:blipFill>
        <p:spPr>
          <a:xfrm>
            <a:off x="106200" y="334800"/>
            <a:ext cx="4753080" cy="349092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10"/>
          <p:cNvGrpSpPr/>
          <p:nvPr/>
        </p:nvGrpSpPr>
        <p:grpSpPr>
          <a:xfrm>
            <a:off x="900000" y="692280"/>
            <a:ext cx="3238560" cy="3238200"/>
            <a:chOff x="900000" y="692280"/>
            <a:chExt cx="3238560" cy="3238200"/>
          </a:xfrm>
        </p:grpSpPr>
        <p:sp>
          <p:nvSpPr>
            <p:cNvPr id="121" name="Oval 8"/>
            <p:cNvSpPr/>
            <p:nvPr/>
          </p:nvSpPr>
          <p:spPr>
            <a:xfrm>
              <a:off x="900000" y="692280"/>
              <a:ext cx="3238560" cy="3238200"/>
            </a:xfrm>
            <a:prstGeom prst="ellipse">
              <a:avLst/>
            </a:prstGeom>
            <a:noFill/>
            <a:ln w="31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9"/>
            <p:cNvSpPr/>
            <p:nvPr/>
          </p:nvSpPr>
          <p:spPr>
            <a:xfrm flipV="1">
              <a:off x="1332000" y="1195200"/>
              <a:ext cx="2303280" cy="2160360"/>
            </a:xfrm>
            <a:prstGeom prst="line">
              <a:avLst/>
            </a:prstGeom>
            <a:ln w="3175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627280" y="0"/>
            <a:ext cx="4278240" cy="6022800"/>
          </a:xfrm>
          <a:prstGeom prst="rect">
            <a:avLst/>
          </a:prstGeom>
          <a:ln w="0">
            <a:noFill/>
          </a:ln>
        </p:spPr>
      </p:pic>
      <p:sp>
        <p:nvSpPr>
          <p:cNvPr id="124" name="QuadreDeText 4"/>
          <p:cNvSpPr/>
          <p:nvPr/>
        </p:nvSpPr>
        <p:spPr>
          <a:xfrm>
            <a:off x="2627280" y="6021360"/>
            <a:ext cx="424836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000" spc="-1" strike="noStrike">
                <a:solidFill>
                  <a:srgbClr val="ffffff"/>
                </a:solidFill>
                <a:latin typeface="Arial"/>
              </a:rPr>
              <a:t>Barcelona: 18 h. Pça. Universitat. Manifestaci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6761160" y="5931000"/>
            <a:ext cx="14436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205000"/>
            <a:ext cx="8007480" cy="389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Què és la </a:t>
            </a:r>
            <a:r>
              <a:rPr b="1" lang="ca-ES" sz="3200" spc="-1" strike="noStrike">
                <a:solidFill>
                  <a:srgbClr val="ffffff"/>
                </a:solidFill>
                <a:latin typeface="Arial"/>
              </a:rPr>
              <a:t>Vaga General d’Universitats</a:t>
            </a: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És una resposta del conjunt de les comunitats universitàries a la política de retallades a les universita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Pretén ser l’inici d’un procés de mobilitzacions que freni la degradació de les universitats públiq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7720" y="1988640"/>
            <a:ext cx="80074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Qui està cridat a la </a:t>
            </a:r>
            <a:r>
              <a:rPr b="1" lang="ca-ES" sz="2800" spc="-1" strike="noStrike">
                <a:solidFill>
                  <a:srgbClr val="ffffff"/>
                </a:solidFill>
                <a:latin typeface="Arial"/>
              </a:rPr>
              <a:t>Vaga 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 proper 17-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PDI funcionari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contractat (i interí)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vinculat a les universitats públiques catalanes, inclòs el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personal investigador en formació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PAS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funcionari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i </a:t>
            </a:r>
            <a:r>
              <a:rPr b="0" lang="ca-ES" sz="2800" spc="-1" strike="noStrike" u="sng">
                <a:solidFill>
                  <a:srgbClr val="ffffff"/>
                </a:solidFill>
                <a:uFillTx/>
                <a:latin typeface="Arial"/>
              </a:rPr>
              <a:t>contractat (i interí)</a:t>
            </a: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 vinculat a les universitats públiques catala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es mateixes tipologies laborals vinculades a fundacions i consorcis de les universitats públiques catala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ls i les estudia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988640"/>
            <a:ext cx="84502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D’on prové la crida de </a:t>
            </a:r>
            <a:r>
              <a:rPr b="1" lang="ca-ES" sz="2400" spc="-1" strike="noStrike">
                <a:solidFill>
                  <a:srgbClr val="ffffff"/>
                </a:solidFill>
                <a:latin typeface="Arial"/>
              </a:rPr>
              <a:t>Vaga p</a:t>
            </a: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el proper 17-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Diverses assemblees de PDI i PAS a la UAB i a la UPF van plantejar la vaga durant el mes de setemb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El 8 d’octubre, l’assemblea general de la PUDUP (Plataforma Unitària en Defensa de la Universitat Pública), amb participació de delegacions de les diferents universitats, formalitza la crida a la vaga el 17-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El 2 de novembre es legalitza la vaga per als treballadors/es davant les diferents universitats i del Departament de Treball i Ocupaci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a vaga de treballadors (PDI i PAS) qui i com l’ha convoc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a convocatòria oficial la realitza la CGT de Catalunya, després que la resta de sindicats amb representació optessin per no fer-h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Alguns organismes unitaris l’han recolzat i també la convoquen, com el Comitè d’empresa del PDI de la UAB, que ho va fer per unanimitat dels sindicats que el conform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Assemblees de PDI de la UAB i de PDI i PAS de la UPF també s’hi ha adheri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Per tant, la vaga del 17-N no és només d’estudian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No, és en primer lloc una vaga de treballadors/es de les 7 universitats públiques catalanes: UB, UAB, UPC, UPF, UdG, UdL i UR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També és una vaga d’estudiants d’universitat i d’alguns institu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És també una mobilització del conjunt de la ciutadania en defensa de l’educació pública i, en especial, de les universita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No és patrimoni de cap organització sindical concre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Com a PDI, quines raons tinc per a la vag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Generalitat el 2011 ha retallat en més del 16% el pressupost de les universitats públiques. L’any 2012 preveu una retallada addi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retallada és principalment en Capítol 1, que compor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Destrucció de llocs de treball (més de 150 a la UAB el 2011, 400 a la UPC, etc). Pel curs 2012 es preveu una reducció d’entre 2000 i 3000 professors, la majoria associats, però també postdoctorals, PIF, lectors i la no renovació de jubilac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aturada dels programes de consolidació del professorat tempora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Una degradació dels contractes de molts professors: baixada del nivell d’associat, increment de la dedicació, contractes quatrimestral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degradació de les condicions de treball: grups més grans, canvi dels models de dedicació laboral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El tancament de títols: actualment es preveu tancar uns 250 màsters propis i a partir del 2012/2013 començarà la reestructuració del mapa de gra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’afavoriment de les iniciatives privades dins de l’àmbit universitari, en detriment de les públ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50920" y="1988640"/>
            <a:ext cx="85946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ffffff"/>
                </a:solidFill>
                <a:latin typeface="Arial"/>
              </a:rPr>
              <a:t>Com a PAS, quines raons tinc per a la vag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Generalitat el 2011 ha retallat en més del 16% el pressupost de les universitats públiques. L’any 2012 preveu una retallada addi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retallada és principalment en Capítol 1, que comport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supressió de places de reforçi la no renovació de personal interí, temporal i d'altr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’acomiadament encobert de varis centenars de PAS adscrits al Capítol 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La pèrdua de millores salarials, dels del 5% retallat l’any 2009 fins a complements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600" spc="-1" strike="noStrike">
                <a:solidFill>
                  <a:srgbClr val="ffffff"/>
                </a:solidFill>
                <a:latin typeface="Arial"/>
              </a:rPr>
              <a:t>Rebaixada de contractes del PAS de jornada complerta a jornada reduïda de 25 hores, amb la consegüent minva de les seves retribucion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a degradació de les condicions de treball: alguns serveis s’han de cobrir amb menys pers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Malgrat les retallades salarials, continua havent-hi un gran nombre de càrrecs de confiança amb retribucions molt per sobre del conveni i que, molt sovint, no són públ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ffffff"/>
                </a:solidFill>
                <a:latin typeface="Arial"/>
              </a:rPr>
              <a:t>L’afavoriment de les iniciatives privades dins de l’àmbit universitari, en detriment de les públiqu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640" y="1988640"/>
            <a:ext cx="889308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ffffff"/>
                </a:solidFill>
                <a:latin typeface="Arial"/>
              </a:rPr>
              <a:t>Però, no és massa aviat per fer vag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No. Les retallades principalment provenen del pressupost de la Generalitat. Ara encara no ha començat a discutir-se el de l’any 2012 i, per tant, encara s’hi pot incidi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En plena campanya electoral la vaga afecta directament el govern de CiU i les seves aspiracions electoral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ffffff"/>
                </a:solidFill>
                <a:latin typeface="Arial"/>
              </a:rPr>
              <a:t>La vaga és una passa més en la lluita i ha de permetre afrontar la resta del curs amb més força i cohesi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8:43:46Z</dcterms:created>
  <dc:creator>barcelona</dc:creator>
  <dc:description/>
  <dc:language>en-US</dc:language>
  <cp:lastModifiedBy>Renovi</cp:lastModifiedBy>
  <dcterms:modified xsi:type="dcterms:W3CDTF">2011-11-14T11:22:43Z</dcterms:modified>
  <cp:revision>11</cp:revision>
  <dc:subject/>
  <dc:title>Diapositiva 1</dc:title>
</cp:coreProperties>
</file>