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FE1-625F-44BB-A787-6F9DAC49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8BE-8A8A-4DF7-97A9-B639A02C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5FB-839C-457C-8A6F-1CE77DDB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0392-7B22-4BB9-9941-0DC7FBF2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67D9-9CE4-45BA-9650-9A1FF278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F1A7-3901-4207-88C0-6AAD8EB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E245-7B07-42A6-A898-205AA216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4976-8BA5-4E66-B39E-3FDD6D7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880B-5877-4EF4-B401-58824FF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0477-5000-4C61-8A18-A3CC0E1A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4A63-D3BD-4F92-B027-4BEAF0C0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B37-746B-46C1-8C42-84BADCC8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5F6-A097-4492-ADF4-AB7565A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8E39-D005-42F1-824C-2CE04BD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1398-71ED-4664-AD7B-F04FD002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01C3E-5EEA-48B5-BE7F-CA58F2F91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298E-DDE9-4B8E-9BEA-F07F7E58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E57-0CBD-4B2D-A1E2-8B0DBDC5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7995-3854-4FC6-A09E-84FC38E3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721-F115-424C-B144-09DC2CBD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A27-BA8E-4EEB-B0E1-D4AE1094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3CD9-CD16-4712-B086-4F16E95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369-BC62-4F0E-B181-0E40E9DE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C116-FFCE-4435-856A-5DF86DAC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AB3B-278E-4008-AD39-DA79F25FC8B8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BBF3-1329-45E6-878C-11D8A0D54266}" type="slidenum">
              <a:rPr b="0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24000" y="2349360"/>
            <a:ext cx="849600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17 DE NOVEMB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ffffff"/>
                </a:solidFill>
                <a:latin typeface="Arial"/>
              </a:rPr>
              <a:t>VAGA GENERAL D’UNIVERSIT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ffffff"/>
                </a:solidFill>
                <a:latin typeface="Arial"/>
              </a:rPr>
              <a:t>PÚBLIQUES CATALA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716360" y="406440"/>
            <a:ext cx="4248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hi tenim més a perdre si ens quedem quiets/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no em vull quedar mirant com d’altres defensen la dignitat i el meu lloc de tre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em segueixo creient que la universitat és un servei públi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55640" y="4581360"/>
            <a:ext cx="755964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ff66"/>
                </a:solidFill>
                <a:latin typeface="Arial"/>
              </a:rPr>
              <a:t>Aquest dijous 17-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66"/>
                </a:solidFill>
                <a:latin typeface="Arial"/>
              </a:rPr>
              <a:t>FAREM VAGA 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retallable_1"/>
          <p:cNvPicPr/>
          <p:nvPr/>
        </p:nvPicPr>
        <p:blipFill>
          <a:blip r:embed="rId1"/>
          <a:srcRect l="6657" t="0" r="13337" b="0"/>
          <a:stretch/>
        </p:blipFill>
        <p:spPr>
          <a:xfrm>
            <a:off x="106200" y="334800"/>
            <a:ext cx="4753080" cy="34909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0"/>
          <p:cNvGrpSpPr/>
          <p:nvPr/>
        </p:nvGrpSpPr>
        <p:grpSpPr>
          <a:xfrm>
            <a:off x="900000" y="692280"/>
            <a:ext cx="3238560" cy="3238200"/>
            <a:chOff x="900000" y="692280"/>
            <a:chExt cx="3238560" cy="3238200"/>
          </a:xfrm>
        </p:grpSpPr>
        <p:sp>
          <p:nvSpPr>
            <p:cNvPr id="121" name="Oval 8"/>
            <p:cNvSpPr/>
            <p:nvPr/>
          </p:nvSpPr>
          <p:spPr>
            <a:xfrm>
              <a:off x="900000" y="692280"/>
              <a:ext cx="3238560" cy="3238200"/>
            </a:xfrm>
            <a:prstGeom prst="ellipse">
              <a:avLst/>
            </a:prstGeom>
            <a:noFill/>
            <a:ln w="31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 flipV="1">
              <a:off x="1332000" y="1195200"/>
              <a:ext cx="2303280" cy="2160360"/>
            </a:xfrm>
            <a:prstGeom prst="line">
              <a:avLst/>
            </a:prstGeom>
            <a:ln w="31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278240" cy="6022800"/>
          </a:xfrm>
          <a:prstGeom prst="rect">
            <a:avLst/>
          </a:prstGeom>
          <a:ln w="0">
            <a:noFill/>
          </a:ln>
        </p:spPr>
      </p:pic>
      <p:sp>
        <p:nvSpPr>
          <p:cNvPr id="124" name="QuadreDeText 4"/>
          <p:cNvSpPr/>
          <p:nvPr/>
        </p:nvSpPr>
        <p:spPr>
          <a:xfrm>
            <a:off x="2627280" y="6021360"/>
            <a:ext cx="424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Barcelona: 18 h. Pça. Universitat. Manifestaci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761160" y="5931000"/>
            <a:ext cx="14436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Què és la </a:t>
            </a: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Vaga General d’Universitats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És una resposta del conjunt de les comunitats universitàries a la política de retallades a les universit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Pretén ser l’inici d’un procés de mobilitzacions que freni la degradació de les universitats públ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1988640"/>
            <a:ext cx="80074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Qui està cridat a la 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Vaga 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proper 17-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DI funcionari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contractat (i interí)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vinculat a les universitats públiques catalanes, inclòs 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ersonal investigador en formació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AS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funcionari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contractat (i interí)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vinculat a les universitats públiques catal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es mateixes tipologies laborals vinculades a fundacions i consorcis de les universitats públiques catal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s i les estudi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450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’on prové la crida de </a:t>
            </a: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Vaga p</a:t>
            </a: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proper 17-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iverses assemblees de PDI i PAS a la UAB i a la UPF van plantejar la vaga durant el mes de setemb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8 d’octubre, l’assemblea general de la PUDUP (Plataforma Unitària en Defensa de la Universitat Pública), amb participació de delegacions de les diferents universitats, formalitza la crida a la vaga el 17-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2 de novembre es legalitza la vaga per als treballadors/es davant les diferents universitats i del Departament de Treball i Ocupac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vaga de treballadors (PDI i PAS) qui i com l’ha convoc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convocatòria oficial la realitza la CGT de Catalunya, després que la resta de sindicats amb representació optessin per no fer-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Alguns organismes unitaris l’han recolzat i també la convoquen, com el Comitè d’empresa del PDI de la UAB, que ho va fer per unanimitat dels sindicats que el confor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Assemblees de PDI de la UAB i de PDI i PAS de la UPF també s’hi ha adhe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Per tant, la vaga del 17-N no és només d’estudi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, és en primer lloc una vaga de treballadors/es de les 7 universitats públiques catalanes: UB, UAB, UPC, UPF, UdG, UdL i UR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També és una vaga d’estudiants d’universitat i d’alguns instit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És també una mobilització del conjunt de la ciutadania en defensa de l’educació pública i, en especial, de les universit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 és patrimoni de cap organització sindical concre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Com a PDI, quines raons tinc per a la vag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Generalitat el 2011 ha retallat en més del 16% el pressupost de les universitats públiques. L’any 2012 preveu una retallada addi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retallada és principalment en Capítol 1, que compor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estrucció de llocs de treball (més de 150 a la UAB el 2011, 400 a la UPC, etc). Pel curs 2012 es preveu una reducció d’entre 2000 i 3000 professors, la majoria associats, però també postdoctorals, PIF, lectors i la no renovació de jubilac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aturada dels programes de consolidació del professorat tempo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degradació dels contractes de molts professors: baixada del nivell d’associat, increment de la dedicació, contractes quatrimestral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degradació de les condicions de treball: grups més grans, canvi dels models de dedicació laboral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El tancament de títols: actualment es preveu tancar uns 250 màsters propis i a partir del 2012/2013 començarà la reestructuració del mapa de gra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’afavoriment de les iniciatives privades dins de l’àmbit universitari, en detriment de les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Com a PAS, quines raons tinc per a la vag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Generalitat el 2011 ha retallat en més del 16% el pressupost de les universitats públiques. L’any 2012 preveu una retallada addi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retallada és principalment en Capítol 1, que compor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upressió de places de reforçi la no renovació de personal interí, temporal i d'alt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’acomiadament encobert de varis centenars de PAS adscrits al Capítol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pèrdua de millores salarials, dels del 5% retallat l’any 2009 fins a complement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Rebaixada de contractes del PAS de jornada complerta a jornada reduïda de 25 hores, amb la consegüent minva de les seves retribuc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degradació de les condicions de treball: alguns serveis s’han de cobrir amb menys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Malgrat les retallades salarials, continua havent-hi un gran nombre de càrrecs de confiança amb retribucions molt per sobre del conveni i que, molt sovint, no són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’afavoriment de les iniciatives privades dins de l’àmbit universitari, en detriment de les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64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Però, no és massa aviat per fer vag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. Les retallades principalment provenen del pressupost de la Generalitat. Ara encara no ha començat a discutir-se el de l’any 2012 i, per tant, encara s’hi pot inci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n plena campanya electoral la vaga afecta directament el govern de CiU i les seves aspiracions elector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vaga és una passa més en la lluita i ha de permetre afrontar la resta del curs amb més força i cohesi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43:46Z</dcterms:created>
  <dc:creator>barcelona</dc:creator>
  <dc:description/>
  <dc:language>en-US</dc:language>
  <cp:lastModifiedBy>Renovi</cp:lastModifiedBy>
  <dcterms:modified xsi:type="dcterms:W3CDTF">2011-11-14T11:22:43Z</dcterms:modified>
  <cp:revision>11</cp:revision>
  <dc:subject/>
  <dc:title>Diapositiva 1</dc:title>
</cp:coreProperties>
</file>